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6.png" ContentType="image/png"/>
  <Override PartName="/ppt/media/image4.pct" ContentType="image/x-pict"/>
  <Override PartName="/ppt/media/image7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184E-E3A7-41F6-881D-8CC32230E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ere founded about 30 years ago in a mall in the seattle subu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grown to a full time staff of about 250 peo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ing array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icated and ongoing – point of slide is to show a concrete example of a few of the principles that we co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row – different versions of the genome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’ve taken information from several genome annotations and transferred them to a new version of a ge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– designed probes to early versions of a genome – remapped them to newer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row – comparing result sets from several different gen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ll systems described a couple of sides ago does not exist, but it components of it does, and we have used those components in this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pe is that the full system as described will facilitate and simplify projects like th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im of SSGCID is to determine the 3d structure of proteins from a variety of human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athogens are from a list compiled by the National institute of allergy and infectious disease, known as the priority pathogens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st contains a set of organisms that are emerging or re-emerging threats to human heal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emerging due to drug resistance, changes in land use, human demographic factors, bioterro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5 year multi center collaborative project between SBRI, the UW, the Pacific Northwest National Laboratory in Richland and Decode BioStructures, a local biotech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using a pipelining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talk about the Bioinformatic screening, as that is where I spend most of my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creening out genes that have physical properties that make them unlikely to have a solvabl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creening out genes that have no significant similarity to existing drug targ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creening out genes that are too similar to an existing solve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dundancy scr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A829-17F0-4EBF-8D19-64199865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3769-ADA7-43DD-8576-8020FF5E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A9E4-34EB-4161-99C3-1BADF696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F395-022B-4ACF-853C-F80BDBA6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76EB-3E9C-4124-94F9-70338E19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ABF5-875F-4F81-A06B-F1F5306C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4D57-F3EC-4D3E-A101-8B782D2A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6C1D-CF8B-4CC3-9C6B-911A5FAF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C3EA-D8C6-41EB-A6C8-1FC22A51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5E1D-C1A5-4E3F-95E2-FC72ADD2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942D-2509-4A10-A778-B8FBF82B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5213-D687-4045-B260-2FE5AC2B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0B9A-E96F-4152-BF1F-8BA27C138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2009 GMOD Mee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hileep Siv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008040"/>
                </a:solidFill>
                <a:latin typeface="Arial"/>
              </a:rPr>
              <a:t>Isabelle P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ttle Biomedical Research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36640" cy="1752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22320" y="0"/>
            <a:ext cx="1177920" cy="1752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086280" y="0"/>
            <a:ext cx="2514600" cy="1760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686560" y="0"/>
            <a:ext cx="1314360" cy="1752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7086600" y="0"/>
            <a:ext cx="20574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+ GUS: why do we need bo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with I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ion tools: Manatee (apollo), Erga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data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with UPe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front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data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5200" y="3000240"/>
            <a:ext cx="1251000" cy="17528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46080" y="365760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57240" y="990720"/>
            <a:ext cx="243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uctural ge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69" idx="1"/>
            <a:endCxn id="169" idx="4"/>
          </p:cNvCxnSpPr>
          <p:nvPr/>
        </p:nvCxnSpPr>
        <p:spPr>
          <a:xfrm flipH="1" rot="16200000">
            <a:off x="3134880" y="3124800"/>
            <a:ext cx="877320" cy="626040"/>
          </a:xfrm>
          <a:prstGeom prst="curvedConnector5">
            <a:avLst>
              <a:gd name="adj1" fmla="val -26067"/>
              <a:gd name="adj2" fmla="val 68239"/>
              <a:gd name="adj3" fmla="val -26067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73" name=""/>
          <p:cNvSpPr/>
          <p:nvPr/>
        </p:nvSpPr>
        <p:spPr>
          <a:xfrm>
            <a:off x="3505320" y="2133720"/>
            <a:ext cx="227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78000" y="223848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914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42280" y="4724280"/>
            <a:ext cx="207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ga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0680" y="423720"/>
            <a:ext cx="39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data management at SB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40520" y="2666880"/>
            <a:ext cx="1251000" cy="17528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02600" y="33526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457200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83480" y="541008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S WD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057400" y="45716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02480" y="5378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2GUS: Lost in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ormalized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sql (IGS Ch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d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la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gres port from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600200" y="2457360"/>
            <a:ext cx="232416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performance iss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448240" y="2514600"/>
            <a:ext cx="232416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performance iss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king the best of two wor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cal dat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u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-free data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custom wrappers over raw SQ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Ms: Chado Hibernate, Active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ied objec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BMS-free data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GUS predefined query + set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mart + Gala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F + triple store + sparql (object store + Luce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ttle Biomedical Research Institute (SBR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ed in 19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250 full-time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infectious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 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ties to the University of Washing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e first came to use Ch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20040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mjF Probe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320040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nJ Probe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1981080"/>
            <a:ext cx="1160280" cy="30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mjF V5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1981080"/>
            <a:ext cx="1160280" cy="30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J V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95920" y="1981080"/>
            <a:ext cx="1160640" cy="30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J V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86600" y="1981080"/>
            <a:ext cx="1160640" cy="30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J V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23920" y="1981080"/>
            <a:ext cx="1160640" cy="30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mjF V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62040" y="434340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434340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14840" y="4343400"/>
            <a:ext cx="1295280" cy="3016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4" idx="2"/>
            <a:endCxn id="58" idx="0"/>
          </p:cNvCxnSpPr>
          <p:nvPr/>
        </p:nvCxnSpPr>
        <p:spPr>
          <a:xfrm flipH="1" rot="16200000">
            <a:off x="1478520" y="2507760"/>
            <a:ext cx="918360" cy="467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8" idx="2"/>
            <a:endCxn id="65" idx="1"/>
          </p:cNvCxnSpPr>
          <p:nvPr/>
        </p:nvCxnSpPr>
        <p:spPr>
          <a:xfrm rot="5400000">
            <a:off x="1370160" y="3693240"/>
            <a:ext cx="992880" cy="610560"/>
          </a:xfrm>
          <a:prstGeom prst="curvedConnector5">
            <a:avLst>
              <a:gd name="adj1" fmla="val 42364"/>
              <a:gd name="adj2" fmla="val 68731"/>
              <a:gd name="adj3" fmla="val 423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1562040" y="563868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ul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5638680"/>
            <a:ext cx="1295280" cy="301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ul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563868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ul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0" idx="2"/>
            <a:endCxn id="65" idx="3"/>
          </p:cNvCxnSpPr>
          <p:nvPr/>
        </p:nvCxnSpPr>
        <p:spPr>
          <a:xfrm rot="5400000">
            <a:off x="1794240" y="3345480"/>
            <a:ext cx="2212200" cy="86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1" idx="2"/>
            <a:endCxn id="59" idx="0"/>
          </p:cNvCxnSpPr>
          <p:nvPr/>
        </p:nvCxnSpPr>
        <p:spPr>
          <a:xfrm flipH="1" rot="16200000">
            <a:off x="4727520" y="2555280"/>
            <a:ext cx="918360" cy="372240"/>
          </a:xfrm>
          <a:prstGeom prst="curvedConnector5">
            <a:avLst>
              <a:gd name="adj1" fmla="val 50000"/>
              <a:gd name="adj2" fmla="val 4995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59" idx="2"/>
            <a:endCxn id="66" idx="1"/>
          </p:cNvCxnSpPr>
          <p:nvPr/>
        </p:nvCxnSpPr>
        <p:spPr>
          <a:xfrm flipH="1" rot="16200000">
            <a:off x="5122800" y="3750480"/>
            <a:ext cx="992880" cy="495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3" idx="2"/>
            <a:endCxn id="66" idx="3"/>
          </p:cNvCxnSpPr>
          <p:nvPr/>
        </p:nvCxnSpPr>
        <p:spPr>
          <a:xfrm rot="5400000">
            <a:off x="6316200" y="3143160"/>
            <a:ext cx="2197800" cy="505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0" idx="2"/>
            <a:endCxn id="67" idx="1"/>
          </p:cNvCxnSpPr>
          <p:nvPr/>
        </p:nvCxnSpPr>
        <p:spPr>
          <a:xfrm flipH="1" rot="16200000">
            <a:off x="2222280" y="3002400"/>
            <a:ext cx="2212200" cy="772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59" idx="2"/>
            <a:endCxn id="67" idx="3"/>
          </p:cNvCxnSpPr>
          <p:nvPr/>
        </p:nvCxnSpPr>
        <p:spPr>
          <a:xfrm rot="5400000">
            <a:off x="4694760" y="3817080"/>
            <a:ext cx="992880" cy="36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2" idx="2"/>
          </p:cNvCxnSpPr>
          <p:nvPr/>
        </p:nvCxnSpPr>
        <p:spPr>
          <a:xfrm flipH="1" rot="16200000">
            <a:off x="4361400" y="3787920"/>
            <a:ext cx="2520" cy="4306320"/>
          </a:xfrm>
          <a:prstGeom prst="curvedConnector5">
            <a:avLst>
              <a:gd name="adj1" fmla="val 34800000"/>
              <a:gd name="adj2" fmla="val 49995"/>
              <a:gd name="adj3" fmla="val 348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70" idx="3"/>
            <a:endCxn id="71" idx="1"/>
          </p:cNvCxnSpPr>
          <p:nvPr/>
        </p:nvCxnSpPr>
        <p:spPr>
          <a:xfrm>
            <a:off x="2857680" y="5789160"/>
            <a:ext cx="8769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71" idx="3"/>
            <a:endCxn id="72" idx="1"/>
          </p:cNvCxnSpPr>
          <p:nvPr/>
        </p:nvCxnSpPr>
        <p:spPr>
          <a:xfrm>
            <a:off x="5029200" y="5789160"/>
            <a:ext cx="8388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60" idx="0"/>
            <a:endCxn id="63" idx="0"/>
          </p:cNvCxnSpPr>
          <p:nvPr/>
        </p:nvCxnSpPr>
        <p:spPr>
          <a:xfrm flipH="1" flipV="1" rot="5400000">
            <a:off x="5298120" y="-388800"/>
            <a:ext cx="14760" cy="4725000"/>
          </a:xfrm>
          <a:prstGeom prst="curvedConnector5">
            <a:avLst>
              <a:gd name="adj1" fmla="val 1600000"/>
              <a:gd name="adj2" fmla="val 50000"/>
              <a:gd name="adj3" fmla="val 1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61" idx="0"/>
            <a:endCxn id="63" idx="0"/>
          </p:cNvCxnSpPr>
          <p:nvPr/>
        </p:nvCxnSpPr>
        <p:spPr>
          <a:xfrm flipH="1" flipV="1" rot="5400000">
            <a:off x="6327000" y="640080"/>
            <a:ext cx="14760" cy="2667240"/>
          </a:xfrm>
          <a:prstGeom prst="curvedConnector5">
            <a:avLst>
              <a:gd name="adj1" fmla="val 1600000"/>
              <a:gd name="adj2" fmla="val 50000"/>
              <a:gd name="adj3" fmla="val 1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62" idx="0"/>
            <a:endCxn id="63" idx="0"/>
          </p:cNvCxnSpPr>
          <p:nvPr/>
        </p:nvCxnSpPr>
        <p:spPr>
          <a:xfrm flipH="1" flipV="1" rot="5400000">
            <a:off x="6964560" y="1278360"/>
            <a:ext cx="14760" cy="1391040"/>
          </a:xfrm>
          <a:prstGeom prst="curvedConnector5">
            <a:avLst>
              <a:gd name="adj1" fmla="val 1600000"/>
              <a:gd name="adj2" fmla="val 49987"/>
              <a:gd name="adj3" fmla="val 1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2057400" y="50292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50292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51055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64" idx="0"/>
            <a:endCxn id="60" idx="0"/>
          </p:cNvCxnSpPr>
          <p:nvPr/>
        </p:nvCxnSpPr>
        <p:spPr>
          <a:xfrm flipH="1" rot="16200000">
            <a:off x="2323080" y="1361520"/>
            <a:ext cx="2520" cy="1239120"/>
          </a:xfrm>
          <a:prstGeom prst="curvedConnector5">
            <a:avLst>
              <a:gd name="adj1" fmla="val -14400000"/>
              <a:gd name="adj2" fmla="val 49985"/>
              <a:gd name="adj3" fmla="val -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61" idx="2"/>
            <a:endCxn id="62" idx="2"/>
          </p:cNvCxnSpPr>
          <p:nvPr/>
        </p:nvCxnSpPr>
        <p:spPr>
          <a:xfrm flipH="1" rot="16200000">
            <a:off x="5636520" y="1645200"/>
            <a:ext cx="2520" cy="1276560"/>
          </a:xfrm>
          <a:prstGeom prst="curvedConnector5">
            <a:avLst>
              <a:gd name="adj1" fmla="val 14400000"/>
              <a:gd name="adj2" fmla="val 49985"/>
              <a:gd name="adj3" fmla="val 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array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600200"/>
            <a:ext cx="1143000" cy="190512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600200"/>
            <a:ext cx="167652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mb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2362320"/>
            <a:ext cx="2362320" cy="457200"/>
          </a:xfrm>
          <a:prstGeom prst="rightArrow">
            <a:avLst>
              <a:gd name="adj1" fmla="val 50000"/>
              <a:gd name="adj2" fmla="val 129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12040" y="19051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4191120"/>
            <a:ext cx="3733560" cy="2361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alysis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-level aggr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1" idx="3"/>
            <a:endCxn id="95" idx="3"/>
          </p:cNvCxnSpPr>
          <p:nvPr/>
        </p:nvCxnSpPr>
        <p:spPr>
          <a:xfrm rot="5400000">
            <a:off x="5752080" y="4076640"/>
            <a:ext cx="1867680" cy="7246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: SSG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143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att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uctura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omic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fectiou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638680" y="2057400"/>
            <a:ext cx="3113280" cy="3918600"/>
            <a:chOff x="5638680" y="2057400"/>
            <a:chExt cx="3113280" cy="3918600"/>
          </a:xfrm>
        </p:grpSpPr>
        <p:sp>
          <p:nvSpPr>
            <p:cNvPr id="101" name=""/>
            <p:cNvSpPr/>
            <p:nvPr/>
          </p:nvSpPr>
          <p:spPr>
            <a:xfrm>
              <a:off x="6327720" y="5638680"/>
              <a:ext cx="170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Vaccine Targets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638680" y="2057400"/>
              <a:ext cx="3113280" cy="3272760"/>
              <a:chOff x="5638680" y="2057400"/>
              <a:chExt cx="3113280" cy="3272760"/>
            </a:xfrm>
          </p:grpSpPr>
          <p:sp>
            <p:nvSpPr>
              <p:cNvPr id="103" name=""/>
              <p:cNvSpPr/>
              <p:nvPr/>
            </p:nvSpPr>
            <p:spPr>
              <a:xfrm>
                <a:off x="5638680" y="2218320"/>
                <a:ext cx="1234440" cy="305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873120" y="5169240"/>
                <a:ext cx="644040" cy="16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7517160" y="2218320"/>
                <a:ext cx="1234440" cy="305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38680" y="2057400"/>
                <a:ext cx="3113280" cy="2678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873120" y="5061600"/>
                <a:ext cx="644040" cy="21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813640" y="3295800"/>
              <a:ext cx="267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ne Cloning &amp; Expres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2640" y="4117320"/>
              <a:ext cx="214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tein Crystall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98680" y="4941360"/>
              <a:ext cx="232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ucture Determin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97600" y="2472840"/>
              <a:ext cx="232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ioinformatic Scree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33520" y="1752480"/>
            <a:ext cx="4419360" cy="4191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ject 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362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895480"/>
            <a:ext cx="381024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D Protein Struct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IAID Emerging and re-emerging priority pathoge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ructures will serve as a starting point for drug develop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ulti-cen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G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371600" y="2743200"/>
            <a:ext cx="1477800" cy="1815480"/>
            <a:chOff x="1371600" y="2743200"/>
            <a:chExt cx="1477800" cy="1815480"/>
          </a:xfrm>
        </p:grpSpPr>
        <p:sp>
          <p:nvSpPr>
            <p:cNvPr id="117" name=""/>
            <p:cNvSpPr/>
            <p:nvPr/>
          </p:nvSpPr>
          <p:spPr>
            <a:xfrm>
              <a:off x="1635120" y="4343040"/>
              <a:ext cx="948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0000"/>
                  </a:solidFill>
                  <a:latin typeface="Arial"/>
                </a:rPr>
                <a:t>Vaccine Targets!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371600" y="2743200"/>
              <a:ext cx="1477800" cy="1553760"/>
              <a:chOff x="1371600" y="2743200"/>
              <a:chExt cx="1477800" cy="1553760"/>
            </a:xfrm>
          </p:grpSpPr>
          <p:sp>
            <p:nvSpPr>
              <p:cNvPr id="119" name=""/>
              <p:cNvSpPr/>
              <p:nvPr/>
            </p:nvSpPr>
            <p:spPr>
              <a:xfrm>
                <a:off x="1371600" y="2819520"/>
                <a:ext cx="586080" cy="145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57680" y="4220640"/>
                <a:ext cx="30564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2262960" y="2819520"/>
                <a:ext cx="585720" cy="145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371600" y="2743200"/>
                <a:ext cx="1477800" cy="127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957680" y="4169520"/>
                <a:ext cx="305640" cy="10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392480" y="3230280"/>
              <a:ext cx="1434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ne Cloning &amp; Expres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25680" y="3620880"/>
              <a:ext cx="1169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tein Crystalliz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80680" y="4012920"/>
              <a:ext cx="1258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ucture Determin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79960" y="2839680"/>
              <a:ext cx="1259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ioinformatic Screen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2743200" cy="2508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76920" y="4419720"/>
            <a:ext cx="3200400" cy="1947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V="1">
            <a:off x="2895480" y="2438280"/>
            <a:ext cx="1981440" cy="45720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3200400"/>
            <a:ext cx="304560" cy="1295280"/>
          </a:xfrm>
          <a:custGeom>
            <a:avLst/>
            <a:gdLst>
              <a:gd name="textAreaLeft" fmla="*/ 0 w 304560"/>
              <a:gd name="textAreaRight" fmla="*/ 109800 w 3045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344"/>
                </a:lnTo>
                <a:cubicBezTo>
                  <a:pt x="10800" y="10244"/>
                  <a:pt x="16200" y="11144"/>
                  <a:pt x="21600" y="11144"/>
                </a:cubicBezTo>
                <a:cubicBezTo>
                  <a:pt x="16200" y="11144"/>
                  <a:pt x="10800" y="12044"/>
                  <a:pt x="10800" y="129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886200"/>
            <a:ext cx="1676160" cy="129528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G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1676520"/>
            <a:ext cx="1905120" cy="327636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286000"/>
            <a:ext cx="1905120" cy="198108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1981080"/>
              <a:gd name="textAreaBottom" fmla="*/ 1888200 h 1981080"/>
            </a:gdLst>
            <a:ahLst/>
            <a:rect l="textAreaLeft" t="textAreaTop" r="textAreaRight" b="textAreaBottom"/>
            <a:pathLst>
              <a:path w="21600" h="22461">
                <a:moveTo>
                  <a:pt x="3600" y="0"/>
                </a:moveTo>
                <a:arcTo wR="3600" hR="3600" stAng="16200000" swAng="-5400000"/>
                <a:lnTo>
                  <a:pt x="0" y="18861"/>
                </a:lnTo>
                <a:arcTo wR="3600" hR="3600" stAng="10800000" swAng="-5400000"/>
                <a:lnTo>
                  <a:pt x="18000" y="224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5791320"/>
            <a:ext cx="1828800" cy="5331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38680" y="5791320"/>
            <a:ext cx="1828800" cy="5331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0"/>
            <a:endCxn id="134" idx="3"/>
          </p:cNvCxnSpPr>
          <p:nvPr/>
        </p:nvCxnSpPr>
        <p:spPr>
          <a:xfrm flipV="1">
            <a:off x="3962520" y="4952160"/>
            <a:ext cx="133416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9" name=""/>
          <p:cNvCxnSpPr>
            <a:stCxn id="134" idx="3"/>
            <a:endCxn id="137" idx="0"/>
          </p:cNvCxnSpPr>
          <p:nvPr/>
        </p:nvCxnSpPr>
        <p:spPr>
          <a:xfrm>
            <a:off x="5295960" y="4952520"/>
            <a:ext cx="125784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7010280" y="274320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5" idx="3"/>
            <a:endCxn id="134" idx="2"/>
          </p:cNvCxnSpPr>
          <p:nvPr/>
        </p:nvCxnSpPr>
        <p:spPr>
          <a:xfrm>
            <a:off x="2133720" y="3276720"/>
            <a:ext cx="22104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2592720" y="27432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41160" y="342900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k 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hat have come u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44792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ity of querying BLA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5410080"/>
            <a:ext cx="3504960" cy="8384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289548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ity of querying microarr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1523880"/>
            <a:ext cx="2514600" cy="1981440"/>
          </a:xfrm>
          <a:prstGeom prst="roundRect">
            <a:avLst>
              <a:gd name="adj" fmla="val 16667"/>
            </a:avLst>
          </a:prstGeom>
          <a:solidFill>
            <a:srgbClr val="008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ized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72200" y="5410080"/>
            <a:ext cx="2438280" cy="914400"/>
          </a:xfrm>
          <a:prstGeom prst="roundRect">
            <a:avLst>
              <a:gd name="adj" fmla="val 16667"/>
            </a:avLst>
          </a:prstGeom>
          <a:solidFill>
            <a:srgbClr val="008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14800" y="1828800"/>
            <a:ext cx="1600200" cy="304920"/>
          </a:xfrm>
          <a:prstGeom prst="rightArrow">
            <a:avLst>
              <a:gd name="adj1" fmla="val 50000"/>
              <a:gd name="adj2" fmla="val 13119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3124080"/>
            <a:ext cx="1600200" cy="304920"/>
          </a:xfrm>
          <a:prstGeom prst="rightArrow">
            <a:avLst>
              <a:gd name="adj1" fmla="val 50000"/>
              <a:gd name="adj2" fmla="val 13119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41148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ing of Gen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5638680"/>
            <a:ext cx="1752480" cy="304920"/>
          </a:xfrm>
          <a:prstGeom prst="rightArrow">
            <a:avLst>
              <a:gd name="adj1" fmla="val 50000"/>
              <a:gd name="adj2" fmla="val 143684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4038480"/>
            <a:ext cx="2438280" cy="914400"/>
          </a:xfrm>
          <a:prstGeom prst="roundRect">
            <a:avLst>
              <a:gd name="adj" fmla="val 16667"/>
            </a:avLst>
          </a:prstGeom>
          <a:solidFill>
            <a:srgbClr val="008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Xr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343400"/>
            <a:ext cx="1600200" cy="304920"/>
          </a:xfrm>
          <a:prstGeom prst="rightArrow">
            <a:avLst>
              <a:gd name="adj1" fmla="val 50000"/>
              <a:gd name="adj2" fmla="val 13119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635200" y="3000240"/>
            <a:ext cx="1676520" cy="17528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37720" y="36860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e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57240" y="990720"/>
            <a:ext cx="243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uctural ge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02240" y="368604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56" idx="1"/>
            <a:endCxn id="156" idx="4"/>
          </p:cNvCxnSpPr>
          <p:nvPr/>
        </p:nvCxnSpPr>
        <p:spPr>
          <a:xfrm flipH="1" rot="16200000">
            <a:off x="3453840" y="3018240"/>
            <a:ext cx="877320" cy="839160"/>
          </a:xfrm>
          <a:prstGeom prst="curvedConnector5">
            <a:avLst>
              <a:gd name="adj1" fmla="val -44170"/>
              <a:gd name="adj2" fmla="val 78025"/>
              <a:gd name="adj3" fmla="val -4417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61" name=""/>
          <p:cNvSpPr/>
          <p:nvPr/>
        </p:nvSpPr>
        <p:spPr>
          <a:xfrm>
            <a:off x="4006800" y="220968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6" idx="3"/>
            <a:endCxn id="157" idx="1"/>
          </p:cNvCxnSpPr>
          <p:nvPr/>
        </p:nvCxnSpPr>
        <p:spPr>
          <a:xfrm flipV="1" rot="16200000">
            <a:off x="2634480" y="3913920"/>
            <a:ext cx="839160" cy="838800"/>
          </a:xfrm>
          <a:prstGeom prst="curvedConnector5">
            <a:avLst>
              <a:gd name="adj1" fmla="val -47510"/>
              <a:gd name="adj2" fmla="val 75654"/>
              <a:gd name="adj3" fmla="val -475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178000" y="223848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97520" y="3914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5120" y="4908600"/>
            <a:ext cx="14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20680" y="423720"/>
            <a:ext cx="39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data management at SB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22:05:08Z</dcterms:created>
  <dc:creator>D S</dc:creator>
  <dc:description/>
  <dc:language>en-US</dc:language>
  <cp:lastModifiedBy>D S</cp:lastModifiedBy>
  <dcterms:modified xsi:type="dcterms:W3CDTF">2009-01-16T22:24:17Z</dcterms:modified>
  <cp:revision>11</cp:revision>
  <dc:subject/>
  <dc:title>PowerPoint Presentation</dc:title>
</cp:coreProperties>
</file>